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7064B-5F09-41F8-9363-99DB3607482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roup 7 – The Halog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7 – The Halog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 of the Halog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y/bl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qu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l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 of the Halog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y/bl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qu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l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ses of the Halog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uor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od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rom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lor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othpas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ater treat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traction of Alumi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n stick coat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richment of Ur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ater disinf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drochlor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la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lea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otographic fil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ar g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ame retard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armaceutic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infect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alogen lam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 ray diagn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lt addi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yroid treat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ncer treat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the Halog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uor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od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m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othpas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treat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raction of Alumi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 stick coat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richment of Ur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disinf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ochlor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ea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tographic fil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r g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ame retard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rmaceutic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infect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logen lam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ray diagn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t addi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yroid treat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cer treat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ctions  of the Halogens (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of the halogens will react with Alkali metals to produce ionic comp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hium Brom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tassium Iod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llow the pattern to  write the balanced chemical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ctions  of the Halogens (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of the halogens will react with Alkali metals to produce ionic comp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hium Brom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tassium Iod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llow the pattern to  write the balanced chemical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ctions  of the Halogens (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of the halogens will react with Hydrogen to produce gas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ogen Brom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ogen Iod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llow the pattern to  write the balanced chemical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ctions  of the Halogens (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of the halogens will react with Hydrogen to produce gas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ogen Brom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ogen Iod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llow the pattern to  write the balanced chemical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ctions  of the Halogens (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of the halogens will react with water to produce 2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also happens with Bromine and Iodine and the acids formed are much stronge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ctions  of the Halogens (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of the halogens will react with water to produce 2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also happens with Bromine and Iodine and the acids formed are much stronge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72EF-4E6E-4DA8-9C1A-ABC5262EF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B271-C29F-4D14-960F-4F368CD7C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FFDF-D88D-4F34-A677-4FEB7D5CA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5B82-B32B-4661-9786-AF780D82D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19EF-DC11-4B85-901C-17E3AD340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D383-EFBA-435D-91B0-B2B386823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5853-4C56-4F05-B30D-C6F893F2C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01CA-53AD-4D79-A1B2-B6FFC89C4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105E-5C3A-4933-BA25-3AAE7F54F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6A4F-E20D-4A3B-A8E8-F9B8C78B5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4C27-14AE-49AB-91F3-3CA300011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453E-A5ED-4BF4-BC99-2C187CD27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B9360-25B8-4087-8887-BC3CA58B392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Group 7 – The Haloge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200160" y="2205000"/>
          <a:ext cx="5962680" cy="2773440"/>
        </p:xfrm>
        <a:graphic>
          <a:graphicData uri="http://schemas.openxmlformats.org/drawingml/2006/table">
            <a:tbl>
              <a:tblPr/>
              <a:tblGrid>
                <a:gridCol w="331560"/>
                <a:gridCol w="330120"/>
                <a:gridCol w="331920"/>
                <a:gridCol w="331920"/>
                <a:gridCol w="330120"/>
                <a:gridCol w="331920"/>
                <a:gridCol w="331560"/>
                <a:gridCol w="330120"/>
                <a:gridCol w="331920"/>
                <a:gridCol w="331920"/>
                <a:gridCol w="330120"/>
                <a:gridCol w="331920"/>
                <a:gridCol w="331560"/>
                <a:gridCol w="330120"/>
                <a:gridCol w="331920"/>
                <a:gridCol w="331920"/>
                <a:gridCol w="330120"/>
                <a:gridCol w="331920"/>
              </a:tblGrid>
              <a:tr h="397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</a:tr>
              <a:tr h="395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395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397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</a:tr>
              <a:tr h="395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7764480" y="1268280"/>
          <a:ext cx="1055520" cy="4319640"/>
        </p:xfrm>
        <a:graphic>
          <a:graphicData uri="http://schemas.openxmlformats.org/drawingml/2006/table">
            <a:tbl>
              <a:tblPr/>
              <a:tblGrid>
                <a:gridCol w="1055520"/>
              </a:tblGrid>
              <a:tr h="8654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F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861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l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865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Br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8654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I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861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At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  <p:sp>
        <p:nvSpPr>
          <p:cNvPr id="51" name="Line 225"/>
          <p:cNvSpPr/>
          <p:nvPr/>
        </p:nvSpPr>
        <p:spPr>
          <a:xfrm flipV="1">
            <a:off x="5830920" y="1308240"/>
            <a:ext cx="1933560" cy="1233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226"/>
          <p:cNvSpPr/>
          <p:nvPr/>
        </p:nvSpPr>
        <p:spPr>
          <a:xfrm>
            <a:off x="5830920" y="4230720"/>
            <a:ext cx="1933560" cy="1384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roperties of the Halo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395280" y="1689120"/>
          <a:ext cx="1047600" cy="4307040"/>
        </p:xfrm>
        <a:graphic>
          <a:graphicData uri="http://schemas.openxmlformats.org/drawingml/2006/table">
            <a:tbl>
              <a:tblPr/>
              <a:tblGrid>
                <a:gridCol w="1047600"/>
              </a:tblGrid>
              <a:tr h="861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F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860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l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862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Br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861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I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860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At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  <p:sp>
        <p:nvSpPr>
          <p:cNvPr id="55" name="Text Box 228"/>
          <p:cNvSpPr/>
          <p:nvPr/>
        </p:nvSpPr>
        <p:spPr>
          <a:xfrm>
            <a:off x="1619280" y="981000"/>
            <a:ext cx="9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ol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229"/>
          <p:cNvSpPr/>
          <p:nvPr/>
        </p:nvSpPr>
        <p:spPr>
          <a:xfrm>
            <a:off x="1619280" y="2924280"/>
            <a:ext cx="158436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O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Grey/bl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30"/>
          <p:cNvSpPr/>
          <p:nvPr/>
        </p:nvSpPr>
        <p:spPr>
          <a:xfrm>
            <a:off x="3132000" y="981000"/>
            <a:ext cx="9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31"/>
          <p:cNvSpPr/>
          <p:nvPr/>
        </p:nvSpPr>
        <p:spPr>
          <a:xfrm>
            <a:off x="3203640" y="2924280"/>
            <a:ext cx="136836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G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Liqu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Sol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32"/>
          <p:cNvSpPr/>
          <p:nvPr/>
        </p:nvSpPr>
        <p:spPr>
          <a:xfrm>
            <a:off x="1619280" y="1989000"/>
            <a:ext cx="9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Yel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34"/>
          <p:cNvSpPr/>
          <p:nvPr/>
        </p:nvSpPr>
        <p:spPr>
          <a:xfrm>
            <a:off x="4716360" y="907920"/>
            <a:ext cx="957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35"/>
          <p:cNvSpPr/>
          <p:nvPr/>
        </p:nvSpPr>
        <p:spPr>
          <a:xfrm>
            <a:off x="1692360" y="5445000"/>
            <a:ext cx="9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l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36"/>
          <p:cNvSpPr/>
          <p:nvPr/>
        </p:nvSpPr>
        <p:spPr>
          <a:xfrm>
            <a:off x="3203640" y="5445000"/>
            <a:ext cx="9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Sol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37"/>
          <p:cNvSpPr/>
          <p:nvPr/>
        </p:nvSpPr>
        <p:spPr>
          <a:xfrm>
            <a:off x="3182760" y="1989000"/>
            <a:ext cx="9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G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Group 248"/>
          <p:cNvGrpSpPr/>
          <p:nvPr/>
        </p:nvGrpSpPr>
        <p:grpSpPr>
          <a:xfrm>
            <a:off x="4932360" y="1052640"/>
            <a:ext cx="576000" cy="4752720"/>
            <a:chOff x="4932360" y="1052640"/>
            <a:chExt cx="576000" cy="4752720"/>
          </a:xfrm>
        </p:grpSpPr>
        <p:sp>
          <p:nvSpPr>
            <p:cNvPr id="65" name="Line 240"/>
            <p:cNvSpPr/>
            <p:nvPr/>
          </p:nvSpPr>
          <p:spPr>
            <a:xfrm>
              <a:off x="4932360" y="1052640"/>
              <a:ext cx="0" cy="47527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Text Box 241"/>
            <p:cNvSpPr/>
            <p:nvPr/>
          </p:nvSpPr>
          <p:spPr>
            <a:xfrm rot="5400000">
              <a:off x="3380400" y="3534480"/>
              <a:ext cx="388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INCREASING MOLECULAR  SIZ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Group 249"/>
          <p:cNvGrpSpPr/>
          <p:nvPr/>
        </p:nvGrpSpPr>
        <p:grpSpPr>
          <a:xfrm>
            <a:off x="5940360" y="1125360"/>
            <a:ext cx="510840" cy="4753080"/>
            <a:chOff x="5940360" y="1125360"/>
            <a:chExt cx="510840" cy="4753080"/>
          </a:xfrm>
        </p:grpSpPr>
        <p:sp>
          <p:nvSpPr>
            <p:cNvPr id="68" name="Line 242"/>
            <p:cNvSpPr/>
            <p:nvPr/>
          </p:nvSpPr>
          <p:spPr>
            <a:xfrm>
              <a:off x="5940360" y="1125360"/>
              <a:ext cx="0" cy="47530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245"/>
            <p:cNvSpPr/>
            <p:nvPr/>
          </p:nvSpPr>
          <p:spPr>
            <a:xfrm rot="5400000">
              <a:off x="4323240" y="3459960"/>
              <a:ext cx="388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INCREASING DENSI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Group 250"/>
          <p:cNvGrpSpPr/>
          <p:nvPr/>
        </p:nvGrpSpPr>
        <p:grpSpPr>
          <a:xfrm>
            <a:off x="7812000" y="1125360"/>
            <a:ext cx="511200" cy="4753080"/>
            <a:chOff x="7812000" y="1125360"/>
            <a:chExt cx="511200" cy="4753080"/>
          </a:xfrm>
        </p:grpSpPr>
        <p:sp>
          <p:nvSpPr>
            <p:cNvPr id="71" name="Line 244"/>
            <p:cNvSpPr/>
            <p:nvPr/>
          </p:nvSpPr>
          <p:spPr>
            <a:xfrm>
              <a:off x="7812000" y="1125360"/>
              <a:ext cx="0" cy="47530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Text Box 247"/>
            <p:cNvSpPr/>
            <p:nvPr/>
          </p:nvSpPr>
          <p:spPr>
            <a:xfrm rot="5400000">
              <a:off x="6195240" y="3317040"/>
              <a:ext cx="388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DECREASING REACTIVI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Uses of the Halo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539640" y="1197000"/>
            <a:ext cx="14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Fluor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6659640" y="119700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Iod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6"/>
          <p:cNvSpPr/>
          <p:nvPr/>
        </p:nvSpPr>
        <p:spPr>
          <a:xfrm>
            <a:off x="4572000" y="1197000"/>
            <a:ext cx="14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Brom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2556000" y="1197000"/>
            <a:ext cx="143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Chlor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8"/>
          <p:cNvSpPr/>
          <p:nvPr/>
        </p:nvSpPr>
        <p:spPr>
          <a:xfrm>
            <a:off x="468360" y="1844640"/>
            <a:ext cx="187308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Toothpa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Water trea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Extraction of Alumin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Non stick coat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Enrichment of Uran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9"/>
          <p:cNvSpPr/>
          <p:nvPr/>
        </p:nvSpPr>
        <p:spPr>
          <a:xfrm>
            <a:off x="2484360" y="1844640"/>
            <a:ext cx="1873440" cy="38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Water disinf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Hydrochloric ac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Pla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Blea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0"/>
          <p:cNvSpPr/>
          <p:nvPr/>
        </p:nvSpPr>
        <p:spPr>
          <a:xfrm>
            <a:off x="4572000" y="1836720"/>
            <a:ext cx="187308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Photographic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Tear g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Flame retard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Pharmaceutic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1"/>
          <p:cNvSpPr/>
          <p:nvPr/>
        </p:nvSpPr>
        <p:spPr>
          <a:xfrm>
            <a:off x="6732720" y="1773360"/>
            <a:ext cx="187308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Disinfect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Halogen lam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X ray diagno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Salt add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Thyroid trea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Cancer trea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Reactions  of the Halogens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1"/>
          <p:cNvSpPr/>
          <p:nvPr/>
        </p:nvSpPr>
        <p:spPr>
          <a:xfrm>
            <a:off x="468360" y="1052640"/>
            <a:ext cx="820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ll of the halogens will react with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Alkali metals to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produce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ionic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compou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Group 26"/>
          <p:cNvGrpSpPr/>
          <p:nvPr/>
        </p:nvGrpSpPr>
        <p:grpSpPr>
          <a:xfrm>
            <a:off x="611280" y="1916280"/>
            <a:ext cx="7921440" cy="398880"/>
            <a:chOff x="611280" y="1916280"/>
            <a:chExt cx="7921440" cy="398880"/>
          </a:xfrm>
        </p:grpSpPr>
        <p:sp>
          <p:nvSpPr>
            <p:cNvPr id="85" name="Text Box 22"/>
            <p:cNvSpPr/>
            <p:nvPr/>
          </p:nvSpPr>
          <p:spPr>
            <a:xfrm>
              <a:off x="611280" y="1916280"/>
              <a:ext cx="7921440" cy="3988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LKALI METAL  +  HALOGEN                                METAL HALID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23"/>
            <p:cNvSpPr/>
            <p:nvPr/>
          </p:nvSpPr>
          <p:spPr>
            <a:xfrm>
              <a:off x="4356000" y="2133720"/>
              <a:ext cx="1728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Text Box 24"/>
          <p:cNvSpPr/>
          <p:nvPr/>
        </p:nvSpPr>
        <p:spPr>
          <a:xfrm>
            <a:off x="539640" y="2565360"/>
            <a:ext cx="820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32"/>
          <p:cNvGrpSpPr/>
          <p:nvPr/>
        </p:nvGrpSpPr>
        <p:grpSpPr>
          <a:xfrm>
            <a:off x="611280" y="2637000"/>
            <a:ext cx="7921440" cy="459720"/>
            <a:chOff x="611280" y="2637000"/>
            <a:chExt cx="7921440" cy="459720"/>
          </a:xfrm>
        </p:grpSpPr>
        <p:sp>
          <p:nvSpPr>
            <p:cNvPr id="89" name="Text Box 27"/>
            <p:cNvSpPr/>
            <p:nvPr/>
          </p:nvSpPr>
          <p:spPr>
            <a:xfrm>
              <a:off x="611280" y="2637000"/>
              <a:ext cx="7921440" cy="45972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Sodium           +  Chlor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ine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                    Sodium Chlor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id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28"/>
            <p:cNvSpPr/>
            <p:nvPr/>
          </p:nvSpPr>
          <p:spPr>
            <a:xfrm>
              <a:off x="4427640" y="2852640"/>
              <a:ext cx="151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Group 31"/>
          <p:cNvGrpSpPr/>
          <p:nvPr/>
        </p:nvGrpSpPr>
        <p:grpSpPr>
          <a:xfrm>
            <a:off x="611280" y="3357720"/>
            <a:ext cx="7921440" cy="510120"/>
            <a:chOff x="611280" y="3357720"/>
            <a:chExt cx="7921440" cy="510120"/>
          </a:xfrm>
        </p:grpSpPr>
        <p:sp>
          <p:nvSpPr>
            <p:cNvPr id="92" name="Text Box 29"/>
            <p:cNvSpPr/>
            <p:nvPr/>
          </p:nvSpPr>
          <p:spPr>
            <a:xfrm>
              <a:off x="611280" y="3357720"/>
              <a:ext cx="7921440" cy="51012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2Na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 +     Cl</a:t>
              </a:r>
              <a:r>
                <a:rPr b="1" lang="en-GB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       2Na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Line 30"/>
            <p:cNvSpPr/>
            <p:nvPr/>
          </p:nvSpPr>
          <p:spPr>
            <a:xfrm>
              <a:off x="4427640" y="3573360"/>
              <a:ext cx="151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Group 36"/>
          <p:cNvGrpSpPr/>
          <p:nvPr/>
        </p:nvGrpSpPr>
        <p:grpSpPr>
          <a:xfrm>
            <a:off x="395280" y="4292640"/>
            <a:ext cx="5545080" cy="1783080"/>
            <a:chOff x="395280" y="4292640"/>
            <a:chExt cx="5545080" cy="1783080"/>
          </a:xfrm>
        </p:grpSpPr>
        <p:sp>
          <p:nvSpPr>
            <p:cNvPr id="95" name="Text Box 33"/>
            <p:cNvSpPr/>
            <p:nvPr/>
          </p:nvSpPr>
          <p:spPr>
            <a:xfrm>
              <a:off x="395280" y="4292640"/>
              <a:ext cx="5545080" cy="178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Complete these equati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Lithium  +  Bromine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Potassium + Iodi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Line 34"/>
            <p:cNvSpPr/>
            <p:nvPr/>
          </p:nvSpPr>
          <p:spPr>
            <a:xfrm>
              <a:off x="2987640" y="5229360"/>
              <a:ext cx="208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Line 35"/>
            <p:cNvSpPr/>
            <p:nvPr/>
          </p:nvSpPr>
          <p:spPr>
            <a:xfrm>
              <a:off x="2987640" y="5805360"/>
              <a:ext cx="208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Text Box 37"/>
          <p:cNvSpPr/>
          <p:nvPr/>
        </p:nvSpPr>
        <p:spPr>
          <a:xfrm>
            <a:off x="5580000" y="4869000"/>
            <a:ext cx="2519280" cy="11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thium Brom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tassium Iod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8"/>
          <p:cNvSpPr/>
          <p:nvPr/>
        </p:nvSpPr>
        <p:spPr>
          <a:xfrm>
            <a:off x="395280" y="6237360"/>
            <a:ext cx="84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llow the pattern to  write the balanced chemical equ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Reactions  of the Halogens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468360" y="1052640"/>
            <a:ext cx="820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ll of the halogens will react with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Hydrogen to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produce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gas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21"/>
          <p:cNvGrpSpPr/>
          <p:nvPr/>
        </p:nvGrpSpPr>
        <p:grpSpPr>
          <a:xfrm>
            <a:off x="395280" y="1916280"/>
            <a:ext cx="8023320" cy="398880"/>
            <a:chOff x="395280" y="1916280"/>
            <a:chExt cx="8023320" cy="398880"/>
          </a:xfrm>
        </p:grpSpPr>
        <p:sp>
          <p:nvSpPr>
            <p:cNvPr id="103" name="Text Box 5"/>
            <p:cNvSpPr/>
            <p:nvPr/>
          </p:nvSpPr>
          <p:spPr>
            <a:xfrm>
              <a:off x="395280" y="1916280"/>
              <a:ext cx="8023320" cy="3988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HYDROGEN  +  HALOGEN                              HYDROGEN HALID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6"/>
            <p:cNvSpPr/>
            <p:nvPr/>
          </p:nvSpPr>
          <p:spPr>
            <a:xfrm>
              <a:off x="3780000" y="2133720"/>
              <a:ext cx="1776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Group 22"/>
          <p:cNvGrpSpPr/>
          <p:nvPr/>
        </p:nvGrpSpPr>
        <p:grpSpPr>
          <a:xfrm>
            <a:off x="395280" y="2637000"/>
            <a:ext cx="8064360" cy="459720"/>
            <a:chOff x="395280" y="2637000"/>
            <a:chExt cx="8064360" cy="459720"/>
          </a:xfrm>
        </p:grpSpPr>
        <p:sp>
          <p:nvSpPr>
            <p:cNvPr id="106" name="Text Box 9"/>
            <p:cNvSpPr/>
            <p:nvPr/>
          </p:nvSpPr>
          <p:spPr>
            <a:xfrm>
              <a:off x="395280" y="2637000"/>
              <a:ext cx="8064360" cy="45972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ydrogen    +  Chlor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ine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                  Hydrogen Chlor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id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10"/>
            <p:cNvSpPr/>
            <p:nvPr/>
          </p:nvSpPr>
          <p:spPr>
            <a:xfrm>
              <a:off x="3780000" y="2852640"/>
              <a:ext cx="1728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Group 23"/>
          <p:cNvGrpSpPr/>
          <p:nvPr/>
        </p:nvGrpSpPr>
        <p:grpSpPr>
          <a:xfrm>
            <a:off x="395280" y="3357720"/>
            <a:ext cx="7993080" cy="510120"/>
            <a:chOff x="395280" y="3357720"/>
            <a:chExt cx="7993080" cy="510120"/>
          </a:xfrm>
        </p:grpSpPr>
        <p:sp>
          <p:nvSpPr>
            <p:cNvPr id="109" name="Text Box 12"/>
            <p:cNvSpPr/>
            <p:nvPr/>
          </p:nvSpPr>
          <p:spPr>
            <a:xfrm>
              <a:off x="395280" y="3357720"/>
              <a:ext cx="7993080" cy="51012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GB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       +       Cl</a:t>
              </a:r>
              <a:r>
                <a:rPr b="1" lang="en-GB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       2H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13"/>
            <p:cNvSpPr/>
            <p:nvPr/>
          </p:nvSpPr>
          <p:spPr>
            <a:xfrm>
              <a:off x="3708360" y="3573360"/>
              <a:ext cx="151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Group 14"/>
          <p:cNvGrpSpPr/>
          <p:nvPr/>
        </p:nvGrpSpPr>
        <p:grpSpPr>
          <a:xfrm>
            <a:off x="395280" y="4149720"/>
            <a:ext cx="5545080" cy="1783080"/>
            <a:chOff x="395280" y="4149720"/>
            <a:chExt cx="5545080" cy="1783080"/>
          </a:xfrm>
        </p:grpSpPr>
        <p:sp>
          <p:nvSpPr>
            <p:cNvPr id="112" name="Text Box 15"/>
            <p:cNvSpPr/>
            <p:nvPr/>
          </p:nvSpPr>
          <p:spPr>
            <a:xfrm>
              <a:off x="395280" y="4149720"/>
              <a:ext cx="5545080" cy="178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Complete these equati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Hydrogen +  Bromine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Hydrogen + Iodi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16"/>
            <p:cNvSpPr/>
            <p:nvPr/>
          </p:nvSpPr>
          <p:spPr>
            <a:xfrm>
              <a:off x="2987640" y="5086440"/>
              <a:ext cx="208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17"/>
            <p:cNvSpPr/>
            <p:nvPr/>
          </p:nvSpPr>
          <p:spPr>
            <a:xfrm>
              <a:off x="2987640" y="5662440"/>
              <a:ext cx="208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 Box 18"/>
          <p:cNvSpPr/>
          <p:nvPr/>
        </p:nvSpPr>
        <p:spPr>
          <a:xfrm>
            <a:off x="5580000" y="4724280"/>
            <a:ext cx="2519280" cy="11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ydrogen Brom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ydrogen Iod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9"/>
          <p:cNvSpPr/>
          <p:nvPr/>
        </p:nvSpPr>
        <p:spPr>
          <a:xfrm>
            <a:off x="395280" y="6165720"/>
            <a:ext cx="84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llow the pattern to  write the balanced chemical equ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Reactions  of the Halogens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468360" y="1052640"/>
            <a:ext cx="820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ll of the halogens will react with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water to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produce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2 aci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Group 20"/>
          <p:cNvGrpSpPr/>
          <p:nvPr/>
        </p:nvGrpSpPr>
        <p:grpSpPr>
          <a:xfrm>
            <a:off x="324000" y="1557360"/>
            <a:ext cx="8497800" cy="398880"/>
            <a:chOff x="324000" y="1557360"/>
            <a:chExt cx="8497800" cy="398880"/>
          </a:xfrm>
        </p:grpSpPr>
        <p:sp>
          <p:nvSpPr>
            <p:cNvPr id="120" name="Text Box 5"/>
            <p:cNvSpPr/>
            <p:nvPr/>
          </p:nvSpPr>
          <p:spPr>
            <a:xfrm>
              <a:off x="324000" y="1557360"/>
              <a:ext cx="8497800" cy="3988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WATER   +  HALOGEN                         ACID 1       +        ACID 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6"/>
            <p:cNvSpPr/>
            <p:nvPr/>
          </p:nvSpPr>
          <p:spPr>
            <a:xfrm>
              <a:off x="3348000" y="1773360"/>
              <a:ext cx="136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Text Box 7"/>
          <p:cNvSpPr/>
          <p:nvPr/>
        </p:nvSpPr>
        <p:spPr>
          <a:xfrm>
            <a:off x="539640" y="2565360"/>
            <a:ext cx="820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Group 21"/>
          <p:cNvGrpSpPr/>
          <p:nvPr/>
        </p:nvGrpSpPr>
        <p:grpSpPr>
          <a:xfrm>
            <a:off x="324000" y="2205000"/>
            <a:ext cx="8497800" cy="833040"/>
            <a:chOff x="324000" y="2205000"/>
            <a:chExt cx="8497800" cy="833040"/>
          </a:xfrm>
        </p:grpSpPr>
        <p:sp>
          <p:nvSpPr>
            <p:cNvPr id="124" name="Text Box 9"/>
            <p:cNvSpPr/>
            <p:nvPr/>
          </p:nvSpPr>
          <p:spPr>
            <a:xfrm>
              <a:off x="324000" y="2205000"/>
              <a:ext cx="8497800" cy="8330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Water  +  Chlor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ine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                Hydro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chloric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+ Hydro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chloru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Acid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       Aci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10"/>
            <p:cNvSpPr/>
            <p:nvPr/>
          </p:nvSpPr>
          <p:spPr>
            <a:xfrm>
              <a:off x="3132000" y="2421000"/>
              <a:ext cx="129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Group 22"/>
          <p:cNvGrpSpPr/>
          <p:nvPr/>
        </p:nvGrpSpPr>
        <p:grpSpPr>
          <a:xfrm>
            <a:off x="324000" y="3357720"/>
            <a:ext cx="8496000" cy="510120"/>
            <a:chOff x="324000" y="3357720"/>
            <a:chExt cx="8496000" cy="510120"/>
          </a:xfrm>
        </p:grpSpPr>
        <p:sp>
          <p:nvSpPr>
            <p:cNvPr id="127" name="Text Box 12"/>
            <p:cNvSpPr/>
            <p:nvPr/>
          </p:nvSpPr>
          <p:spPr>
            <a:xfrm>
              <a:off x="324000" y="3357720"/>
              <a:ext cx="8496000" cy="51012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GB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 +     Cl</a:t>
              </a:r>
              <a:r>
                <a:rPr b="1" lang="en-GB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   HCl          +       HO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13"/>
            <p:cNvSpPr/>
            <p:nvPr/>
          </p:nvSpPr>
          <p:spPr>
            <a:xfrm>
              <a:off x="2987640" y="3573360"/>
              <a:ext cx="151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Text Box 15"/>
          <p:cNvSpPr/>
          <p:nvPr/>
        </p:nvSpPr>
        <p:spPr>
          <a:xfrm>
            <a:off x="324000" y="4365720"/>
            <a:ext cx="842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his also happens with Bromine and Iodine and the acids formed are much stronger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8T13:23:13Z</dcterms:created>
  <dc:creator>AJ Foakes</dc:creator>
  <dc:description/>
  <dc:language>en-US</dc:language>
  <cp:lastModifiedBy>LEGION</cp:lastModifiedBy>
  <dcterms:modified xsi:type="dcterms:W3CDTF">2015-09-04T12:23:21Z</dcterms:modified>
  <cp:revision>15</cp:revision>
  <dc:subject/>
  <dc:title>Group 7 – The Halogens</dc:title>
</cp:coreProperties>
</file>